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640B-778F-4605-A59E-0134236E3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A522-8291-49D7-8F86-D2197C1F0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DB45-3883-4587-966A-47B7B0D02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E1D2-B1A1-475B-BFAA-2B8370CA9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76B2-0BFD-4C9F-9FA8-AD15F1F9B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1A88-5911-47DD-BAB2-7D5BA7B79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34D7-C551-46EC-BD23-6E134983E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9EED-37B0-4BC7-BE5C-AD116895A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32FE-08D8-4296-9476-020F5CF7B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22C6-74D3-4C69-9013-E171D19AC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D70A-C9FA-49ED-B2FE-D1040D3F0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B3D2-8751-474B-B3F9-BE473829F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20.gada 28.septembr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FEBC1-77A6-4FB7-9DDB-82A928096776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1142640"/>
            <a:ext cx="7772400" cy="35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558ed5"/>
                </a:solidFill>
                <a:latin typeface="Calibri"/>
              </a:rPr>
              <a:t>E</a:t>
            </a:r>
            <a:r>
              <a:rPr b="1" lang="lv-LV" sz="5400" spc="-1" strike="noStrike">
                <a:solidFill>
                  <a:srgbClr val="558ed5"/>
                </a:solidFill>
                <a:latin typeface="Calibri"/>
              </a:rPr>
              <a:t>-</a:t>
            </a:r>
            <a:r>
              <a:rPr b="1" lang="en-US" sz="5400" spc="-1" strike="noStrike">
                <a:solidFill>
                  <a:srgbClr val="558ed5"/>
                </a:solidFill>
                <a:latin typeface="Calibri"/>
              </a:rPr>
              <a:t>mobilitātes</a:t>
            </a:r>
            <a:br>
              <a:rPr sz="5400"/>
            </a:br>
            <a:r>
              <a:rPr b="1" lang="lv-LV" sz="5400" spc="-1" strike="noStrike">
                <a:solidFill>
                  <a:srgbClr val="558ed5"/>
                </a:solidFill>
                <a:latin typeface="Calibri"/>
              </a:rPr>
              <a:t> </a:t>
            </a:r>
            <a:r>
              <a:rPr b="1" lang="en-US" sz="5400" spc="-1" strike="noStrike">
                <a:solidFill>
                  <a:srgbClr val="558ed5"/>
                </a:solidFill>
                <a:latin typeface="Calibri"/>
              </a:rPr>
              <a:t>jomas</a:t>
            </a:r>
            <a:r>
              <a:rPr b="1" lang="lv-LV" sz="5400" spc="-1" strike="noStrike">
                <a:solidFill>
                  <a:srgbClr val="558ed5"/>
                </a:solidFill>
                <a:latin typeface="Calibri"/>
              </a:rPr>
              <a:t> </a:t>
            </a:r>
            <a:r>
              <a:rPr b="1" lang="en-US" sz="5400" spc="-1" strike="noStrike">
                <a:solidFill>
                  <a:srgbClr val="558ed5"/>
                </a:solidFill>
                <a:latin typeface="Calibri"/>
              </a:rPr>
              <a:t>jaunumi</a:t>
            </a:r>
            <a:r>
              <a:rPr b="1" lang="lv-LV" sz="5400" spc="-1" strike="noStrike">
                <a:solidFill>
                  <a:srgbClr val="558ed5"/>
                </a:solidFill>
                <a:latin typeface="Calibri"/>
              </a:rPr>
              <a:t> </a:t>
            </a:r>
            <a:r>
              <a:rPr b="1" lang="en-US" sz="5400" spc="-1" strike="noStrike">
                <a:solidFill>
                  <a:srgbClr val="558ed5"/>
                </a:solidFill>
                <a:latin typeface="Calibri"/>
              </a:rPr>
              <a:t>Latvijā</a:t>
            </a:r>
            <a:br>
              <a:rPr sz="5400"/>
            </a:br>
            <a:r>
              <a:rPr b="1" lang="en-US" sz="5400" spc="-1" strike="noStrike">
                <a:solidFill>
                  <a:srgbClr val="558ed5"/>
                </a:solidFill>
                <a:latin typeface="Calibri"/>
              </a:rPr>
              <a:t> un</a:t>
            </a:r>
            <a:br>
              <a:rPr sz="5400"/>
            </a:br>
            <a:r>
              <a:rPr b="1" lang="en-US" sz="5400" spc="-1" strike="noStrike">
                <a:solidFill>
                  <a:srgbClr val="558ed5"/>
                </a:solidFill>
                <a:latin typeface="Calibri"/>
              </a:rPr>
              <a:t> ieskats NEKP 2030 </a:t>
            </a:r>
            <a:br>
              <a:rPr sz="32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aisnstūris 4"/>
          <p:cNvSpPr/>
          <p:nvPr/>
        </p:nvSpPr>
        <p:spPr>
          <a:xfrm>
            <a:off x="857160" y="4786200"/>
            <a:ext cx="7572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Arnis Berg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biedrības “Bezizmešu mobilitātes atbalsta biedrība” </a:t>
            </a:r>
            <a:br>
              <a:rPr sz="2400"/>
            </a:b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valdes priekšsēdētāj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558ed5"/>
                </a:solidFill>
                <a:latin typeface="Calibri"/>
              </a:rPr>
              <a:t>ETL uzlāde daudzdzīvokļu māju iedzīvotāji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Tautas skaitīšana 2011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Daudzdzīvokļu mājās dzīvo 68,0%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individuālajās mājās – 28,3%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dvīņu mājās un divu dzīvokļu mājās katrā – 1,1%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rindu mājās – 0,6%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edzīvojamās ēkās – 0,1%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Latvijas iedzīvotāj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8C4F5-D829-4270-90C1-2F3B1FE01DAD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Datuma vietturis 3"/>
          <p:cNvSpPr/>
          <p:nvPr/>
        </p:nvSpPr>
        <p:spPr>
          <a:xfrm>
            <a:off x="457200" y="6356520"/>
            <a:ext cx="7758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20.gada 28.septembr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558ed5"/>
                </a:solidFill>
                <a:latin typeface="Calibri"/>
              </a:rPr>
              <a:t>LBN 208-15 “Publiskas būves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0840" indent="-330840">
              <a:lnSpc>
                <a:spcPts val="4997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89.</a:t>
            </a:r>
            <a:r>
              <a:rPr b="0" lang="lv-LV" sz="3200" spc="-1" strike="noStrike" baseline="30000">
                <a:solidFill>
                  <a:srgbClr val="000000"/>
                </a:solidFill>
                <a:latin typeface="Calibri"/>
              </a:rPr>
              <a:t>1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 Publiskās ēkās ar vairāk nekā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lnSpc>
                <a:spcPts val="4997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10 autostāvvietām paredz vismaz vienu elektrotransportlīdzekļu uzlādes punktu, kā arī katrai piektajai autostāvvietai paredz kanālus elektrības kabeļiem, lai, ja nepieciešams, varētu ierīkot elektrotransportlīdzekļu uzlādes punktus.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1D5E4-601A-4CFA-BD68-38D06DE29C5E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Datuma vietturis 3"/>
          <p:cNvSpPr/>
          <p:nvPr/>
        </p:nvSpPr>
        <p:spPr>
          <a:xfrm>
            <a:off x="457200" y="6356520"/>
            <a:ext cx="7758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20.gada 28.septembr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558ed5"/>
                </a:solidFill>
                <a:latin typeface="Calibri"/>
              </a:rPr>
              <a:t>LBN 211-15 “Dzīvojamās ēkas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58.5. dzīvojamās ēkās ar vairāk nekā 10 autostāvvietām katrai autostāvvietai kanālus elektrības kabeļiem, lai, ja nepieciešams, varētu ierīkot elektrotransportlīdzekļu uzlādes punktus.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5626B-D541-4B79-ACB9-B7DDA726FCAC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Datuma vietturis 3"/>
          <p:cNvSpPr/>
          <p:nvPr/>
        </p:nvSpPr>
        <p:spPr>
          <a:xfrm>
            <a:off x="457200" y="6356520"/>
            <a:ext cx="7758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Datuma vietturis 6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20.gada 28.septembr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558ed5"/>
                </a:solidFill>
                <a:latin typeface="Calibri"/>
              </a:rPr>
              <a:t>Uzlādes pieslēgumu</a:t>
            </a:r>
            <a:br>
              <a:rPr sz="4400"/>
            </a:br>
            <a:r>
              <a:rPr b="0" lang="lv-LV" sz="4400" spc="-1" strike="noStrike">
                <a:solidFill>
                  <a:srgbClr val="558ed5"/>
                </a:solidFill>
                <a:latin typeface="Calibri"/>
              </a:rPr>
              <a:t> </a:t>
            </a:r>
            <a:r>
              <a:rPr b="1" lang="lv-LV" sz="4400" spc="-1" strike="noStrike">
                <a:solidFill>
                  <a:srgbClr val="558ed5"/>
                </a:solidFill>
                <a:latin typeface="Calibri"/>
              </a:rPr>
              <a:t>balansējošais slēgums</a:t>
            </a:r>
            <a:r>
              <a:rPr b="0" lang="lv-LV" sz="4400" spc="-1" strike="noStrike">
                <a:solidFill>
                  <a:srgbClr val="558ed5"/>
                </a:solidFill>
                <a:latin typeface="Calibri"/>
              </a:rPr>
              <a:t>: </a:t>
            </a:r>
            <a:br>
              <a:rPr sz="4400"/>
            </a:br>
            <a:r>
              <a:rPr b="0" lang="lv-LV" sz="4400" spc="-1" strike="noStrike">
                <a:solidFill>
                  <a:srgbClr val="558ed5"/>
                </a:solidFill>
                <a:latin typeface="Calibri"/>
              </a:rPr>
              <a:t>papildus signāla kabelis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28760" y="214308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7600" indent="-327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Tiek izmantota elektroenerģijas pieslēguma brīvā jaud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7600" indent="-327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7600" indent="-327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EM uzlādes jaudu ierobežo, atkarībā no reālajā laikā pieejamās jauda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7600" indent="-327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7600" indent="-327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Sniedz iespēju pieejamo jaudu sadalīt starp EM uzlādes pieslēgumi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158B5-FA06-426D-A1B5-6F8940D19A82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Datuma vietturis 3"/>
          <p:cNvSpPr/>
          <p:nvPr/>
        </p:nvSpPr>
        <p:spPr>
          <a:xfrm>
            <a:off x="457200" y="6356520"/>
            <a:ext cx="7758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20.gada 28.septembr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558ed5"/>
                </a:solidFill>
                <a:latin typeface="Calibri"/>
              </a:rPr>
              <a:t>Alternatīvo degvielu attīstības plāns 2017.–2020. gad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ts val="403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3.10.Noteiktas prasības ieviest uzlādes iespēju publiskos stāvlaukumos (stāvvietās) pie jaunām un renovētām ēkām.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ts val="403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ts val="403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Veicamās darbība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ts val="403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Izstrādāti nosacījumi, lai Eiropas Savienības struktūrfondu vai citu finansējuma avotu ietvaros īstenotu atbalsta pasākumus.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03EE0-ABCE-49B8-830D-1A4EB43E2103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Datuma vietturis 3"/>
          <p:cNvSpPr/>
          <p:nvPr/>
        </p:nvSpPr>
        <p:spPr>
          <a:xfrm>
            <a:off x="457200" y="6356520"/>
            <a:ext cx="7758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20.gada 28.septembr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558ed5"/>
                </a:solidFill>
                <a:latin typeface="Calibri"/>
              </a:rPr>
              <a:t>Grozījumi </a:t>
            </a:r>
            <a:br>
              <a:rPr sz="4400"/>
            </a:br>
            <a:r>
              <a:rPr b="0" lang="lv-LV" sz="4400" spc="-1" strike="noStrike">
                <a:solidFill>
                  <a:srgbClr val="558ed5"/>
                </a:solidFill>
                <a:latin typeface="Calibri"/>
              </a:rPr>
              <a:t>Ēku energoefektivitātes likum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785960"/>
            <a:ext cx="822960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00"/>
                </a:solidFill>
                <a:uFillTx/>
                <a:latin typeface="Calibri"/>
              </a:rPr>
              <a:t>Priekšlikumi 3.lasījumam Saeim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lv-LV" sz="3200" spc="-1" strike="noStrike">
                <a:solidFill>
                  <a:srgbClr val="000000"/>
                </a:solidFill>
                <a:latin typeface="Calibri"/>
              </a:rPr>
              <a:t>4. pants. Ekspluatējamu ēku minimālās energoefektivitātes prasīb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(1) Ekspluatējamu ēku minimālās energoefektivitātes prasības nosaka attiecībā uz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3) </a:t>
            </a:r>
            <a:r>
              <a:rPr b="1" lang="lv-LV" sz="3200" spc="-1" strike="noStrike">
                <a:solidFill>
                  <a:srgbClr val="000000"/>
                </a:solidFill>
                <a:latin typeface="Calibri"/>
              </a:rPr>
              <a:t>elektrotransportlīdzekļu uzlādes punktu ierīkošanu.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2F9CE-3A5E-4D5E-9D4F-396436996C70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Datuma vietturis 3"/>
          <p:cNvSpPr/>
          <p:nvPr/>
        </p:nvSpPr>
        <p:spPr>
          <a:xfrm>
            <a:off x="457200" y="6356520"/>
            <a:ext cx="7758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20.gada 28.septembr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558ed5"/>
                </a:solidFill>
                <a:latin typeface="Calibri"/>
              </a:rPr>
              <a:t>NEKP203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5.1.3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7) tiek atbalstīta elektroinstalācijas izveide daudzdzīvokļu dzīvojamās ēkās konkrētās autostāvvietā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44C66-2BA7-4A54-8AC2-94E8D5C67206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Datuma vietturis 3"/>
          <p:cNvSpPr/>
          <p:nvPr/>
        </p:nvSpPr>
        <p:spPr>
          <a:xfrm>
            <a:off x="457200" y="6356520"/>
            <a:ext cx="7758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20.gada 28.septembr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558ed5"/>
                </a:solidFill>
                <a:latin typeface="Calibri"/>
              </a:rPr>
              <a:t>NEKP203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5.2. Veicināt un atbalstīt mazemisiju transportlīdzekļu un bezemisiju transportlīdzekļu iegādi privātpersonām vai komersanti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5.2.1.finansiāls atbalsts ETL vai velo transportlīdzekļa iegāde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Atbalsts tiek sniegts līdz 15 000 bezemisiju, mazemisiju transportlīdzekļu iegāde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Datuma vietturis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20.gada 28.septembr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B4A80-70D3-4B36-AA72-C8A7F6BFEBB3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558ed5"/>
                </a:solidFill>
                <a:latin typeface="Calibri"/>
              </a:rPr>
              <a:t>NEKP203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5.2.2. izveidot ALTUM aizdevumu vai garantiju programmu mazemisiju vai bezemisiju automobiļu iegādei privātpersonā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4) ar dabasgāzi (tostarp biometānu) darbināmu transportlīdzekļu skaits 2030.gadā līdz 30 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Datuma vietturis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20.gada 28.septembr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65B11-0258-4729-8FDC-56DF12442A3B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558ed5"/>
                </a:solidFill>
                <a:latin typeface="Calibri"/>
              </a:rPr>
              <a:t>NEKP203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5.4.Palielināt mazemisiju un bezemisiju, transportlīdzekļu skaitu caur publisko iepirkumu veiktajos pakalpojumos un piegādē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Datuma vietturis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20.gada 28.septembr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25A94-6C59-4992-9F51-9F71A0991BD4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558ed5"/>
                </a:solidFill>
                <a:latin typeface="Calibri"/>
              </a:rPr>
              <a:t>Elektromobiļu skaita prognoz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Uz 01.07.2020. 854 EM (M1 un N1); 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2018.g. 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40%, 2019.g. 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 48%, 2020.g. 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 27% (6 mēn.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Satiksmes ministrija – 6’000 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2030.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AS Latvenergo – 36’500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 2030.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Latvijas NAP –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ulles emisiju transportlīdzekļu īpatsvars visu transportlīdzekļu skaitā 2% 2027.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uma vietturis 3"/>
          <p:cNvSpPr/>
          <p:nvPr/>
        </p:nvSpPr>
        <p:spPr>
          <a:xfrm>
            <a:off x="3286080" y="6357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20.gada 28.septembr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74CB0-BEB2-4279-92EA-9F849A415B09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558ed5"/>
                </a:solidFill>
                <a:latin typeface="Calibri"/>
              </a:rPr>
              <a:t>NEKP203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5.11.Veicināt maza ātruma transportlīdzekļu infrastruktūras attīstīb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Transportlīdzekļi, kuru maksimālais ātrums ir 45km/h, piemēram, mazas jaudas motorolleri, mazas jaudas motocikli, izņemot lauksaimniecības un mežsaimniecības tehnik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Faktiskās kategorijas: Mopēd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Vai arī Kvadrimobiļi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Datuma vietturis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20.gada 28.septembr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8BCE8-183F-4983-9860-55C057725B70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558ed5"/>
                </a:solidFill>
                <a:latin typeface="Calibri"/>
              </a:rPr>
              <a:t>Jautājumi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99680" y="4571640"/>
            <a:ext cx="3971880" cy="15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Elektromobiļu lietotāju Salidojums Latvijā Bānīša svētk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05.09.2020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B3F99-9248-4D2E-954A-934E9ED4D8E0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Datuma vietturis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20.gada 28.septembr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6" descr="C:\Users\User\Desktop\Arnis\e 06122019\1 Salidojums Bānīša svētkos\Foto 2020\Publikacijai\P1040018.JPG"/>
          <p:cNvPicPr/>
          <p:nvPr/>
        </p:nvPicPr>
        <p:blipFill>
          <a:blip r:embed="rId1"/>
          <a:stretch/>
        </p:blipFill>
        <p:spPr>
          <a:xfrm>
            <a:off x="285840" y="1000080"/>
            <a:ext cx="4286160" cy="32148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C:\Users\User\Desktop\Arnis\e 06122019\1 Salidojums Bānīša svētkos\Foto 2020\Publikacijai\P1040036.JPG"/>
          <p:cNvPicPr/>
          <p:nvPr/>
        </p:nvPicPr>
        <p:blipFill>
          <a:blip r:embed="rId2"/>
          <a:stretch/>
        </p:blipFill>
        <p:spPr>
          <a:xfrm>
            <a:off x="4643280" y="3714840"/>
            <a:ext cx="3905280" cy="292896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558ed5"/>
                </a:solidFill>
                <a:latin typeface="Calibri"/>
              </a:rPr>
              <a:t>Granti elektrisko transportlīdzekļu iegādei Igaunijā 2020.g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28760" y="1571400"/>
            <a:ext cx="8229600" cy="47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5’000EUR par EM (M1, N1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58920" indent="-28584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privātpersonām un juridiskajām personām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58920" indent="-28584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&lt;50’000 EUR bez PVN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58920" indent="-28584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4 gadu laikā ir jāveic 80’000 km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58920" indent="-28584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vismaz 80% no veiktā nobraukumu ir jāveic Igaunijā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Pirmā kārta: 1,2 miljoni EUR: 232 EM, 4 h laikā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Otrā kārta no oktobra: 400’000 EU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uma vietturis 3"/>
          <p:cNvSpPr/>
          <p:nvPr/>
        </p:nvSpPr>
        <p:spPr>
          <a:xfrm>
            <a:off x="3214800" y="6357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20.gada 28.septembr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41169-96E7-435E-8E24-6ADEF35688B9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aisnstūris 5"/>
          <p:cNvSpPr/>
          <p:nvPr/>
        </p:nvSpPr>
        <p:spPr>
          <a:xfrm>
            <a:off x="5500800" y="5572080"/>
            <a:ext cx="314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Sagatavoja Kārlis Mendziņ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Uzlādēts.lv galvenais redak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558ed5"/>
                </a:solidFill>
                <a:latin typeface="Calibri"/>
              </a:rPr>
              <a:t>Granti elektrisko transportlīdzekļu iegādei Lietuvā 2020.g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4’000EUR par jaunu transportlīdzekli (M1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2’000EUR par lietotu transportlīdzekl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1’000EUR norakstot veco auto: 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auto/riteņa/mopēda iegādei vai 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sabiedriskajam transporta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Tikai privātpersonām. Budžets: 5 miljoni EU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uma vietturis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20.gada 28.septembr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81092-F51D-4E64-A761-45D00FA18E43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aisnstūris 6"/>
          <p:cNvSpPr/>
          <p:nvPr/>
        </p:nvSpPr>
        <p:spPr>
          <a:xfrm>
            <a:off x="4143240" y="55720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Sagatavoja Kārlis Mendziņ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Uzlādēts.lv galvenais redak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558ed5"/>
                </a:solidFill>
                <a:latin typeface="Calibri"/>
              </a:rPr>
              <a:t>Jauno EM praktiskā autonomija – 200 - 300 - 400k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28760" y="149976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4000" indent="-324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Vilces akumulatoru kapacitāt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4000" indent="-324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4000" indent="-3240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Volkswagen e-Up! (2014)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8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7kWh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4000" indent="-3240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Volkswagen e-Up!: 36,8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Wh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4000" indent="-324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4000" indent="-3240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issan Leaf (2014): 24kWh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4000" indent="-3240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issan Leaf: 38kWh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4000" indent="-3240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issan Leaf e+: 62kWh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4000" indent="-3240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4000" indent="-3240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Audi e-tron: 95kWh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4000" indent="-324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4D677-A85C-47A9-A0C4-7C56112FA69B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Datuma vietturis 3"/>
          <p:cNvSpPr/>
          <p:nvPr/>
        </p:nvSpPr>
        <p:spPr>
          <a:xfrm>
            <a:off x="457200" y="6356520"/>
            <a:ext cx="7758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20.gada 28.septembr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558ed5"/>
                </a:solidFill>
                <a:latin typeface="Calibri"/>
              </a:rPr>
              <a:t>EM nodotā elektroenerģija (kWh) </a:t>
            </a:r>
            <a:br>
              <a:rPr sz="4400"/>
            </a:br>
            <a:r>
              <a:rPr b="0" lang="lv-LV" sz="4400" spc="-1" strike="noStrike">
                <a:solidFill>
                  <a:srgbClr val="558ed5"/>
                </a:solidFill>
                <a:latin typeface="Calibri"/>
              </a:rPr>
              <a:t>e-mobi un Elektrum uzlādes tīkl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Datuma vietturis 3"/>
          <p:cNvSpPr/>
          <p:nvPr/>
        </p:nvSpPr>
        <p:spPr>
          <a:xfrm>
            <a:off x="457200" y="6356520"/>
            <a:ext cx="7758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20.gada 28.septembr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CB819-779F-4C09-8E96-B931F90FAB2A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Satura vietturis 6" descr=""/>
          <p:cNvPicPr/>
          <p:nvPr/>
        </p:nvPicPr>
        <p:blipFill>
          <a:blip r:embed="rId1"/>
          <a:stretch/>
        </p:blipFill>
        <p:spPr>
          <a:xfrm>
            <a:off x="450720" y="1596960"/>
            <a:ext cx="8242560" cy="453564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558ed5"/>
                </a:solidFill>
                <a:latin typeface="Calibri"/>
              </a:rPr>
              <a:t>AS “Latvenergo” prognoze par uzlādes vietas izvēles secību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2071800"/>
            <a:ext cx="8229600" cy="40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1) </a:t>
            </a:r>
            <a:r>
              <a:rPr b="1" lang="lv-LV" sz="3200" spc="-1" strike="noStrike">
                <a:solidFill>
                  <a:srgbClr val="000000"/>
                </a:solidFill>
                <a:latin typeface="Calibri"/>
              </a:rPr>
              <a:t>mājās (dominējoši pirmā)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3200" spc="-1" strike="noStrike">
                <a:solidFill>
                  <a:srgbClr val="000000"/>
                </a:solidFill>
                <a:latin typeface="Calibri"/>
              </a:rPr>
              <a:t>75-80% elektromobiļu īpašnieku izvēlēsies regulāri veikt elektromobiļa uzlādi mājās, izmantojot 2-11 kW jaudas pieslēgumus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C9E1E-F950-45D2-A296-3B989D820AF4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Datuma vietturis 3"/>
          <p:cNvSpPr/>
          <p:nvPr/>
        </p:nvSpPr>
        <p:spPr>
          <a:xfrm>
            <a:off x="500040" y="6357960"/>
            <a:ext cx="2043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Datuma vietturis 6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20.gada 28.septembr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558ed5"/>
                </a:solidFill>
                <a:latin typeface="Calibri"/>
              </a:rPr>
              <a:t>AS “Latvenergo” prognoze par uzlādes vietas izvēles secību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2) darbā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3) ilgākas apstāšanās vietā (vairākas stundas), kur uzlāde neliek mainīt dienas plānojum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5C886-E08C-45C0-AE97-919D6E5952E6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Datuma vietturis 3"/>
          <p:cNvSpPr/>
          <p:nvPr/>
        </p:nvSpPr>
        <p:spPr>
          <a:xfrm>
            <a:off x="457200" y="6356520"/>
            <a:ext cx="7758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20.gada 28.septembr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58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558ed5"/>
                </a:solidFill>
                <a:latin typeface="Calibri"/>
              </a:rPr>
              <a:t>Uzlāde ilgstošas, lietderīgas, apstāšanās vietā: apskate, izklaide, iepirkšanās, maltītes ieturēšana, naktsmīt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392AC-50DB-474C-92D9-A71911B71B2D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C:\Users\User\Desktop\Arnis\e 06122019\PUBLIKACIJAS\2020\4 jauni uzlādes punkti\Uzlādes pieslēgums Lielbornes muižā.jpg"/>
          <p:cNvPicPr/>
          <p:nvPr/>
        </p:nvPicPr>
        <p:blipFill>
          <a:blip r:embed="rId1"/>
          <a:stretch/>
        </p:blipFill>
        <p:spPr>
          <a:xfrm>
            <a:off x="714240" y="3751200"/>
            <a:ext cx="3357720" cy="2517840"/>
          </a:xfrm>
          <a:prstGeom prst="rect">
            <a:avLst/>
          </a:prstGeom>
          <a:ln w="0">
            <a:noFill/>
          </a:ln>
        </p:spPr>
      </p:pic>
      <p:sp>
        <p:nvSpPr>
          <p:cNvPr id="77" name="Taisnstūris 8"/>
          <p:cNvSpPr/>
          <p:nvPr/>
        </p:nvSpPr>
        <p:spPr>
          <a:xfrm>
            <a:off x="4357800" y="4071960"/>
            <a:ext cx="40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Attēlā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uzlādes pieslēgums Lielbornes muižā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iekļauts BIMAB uzturētaj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ne-tīkla uzlādes punktu kartē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Datuma vietturis 9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20.gada 28.septembr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500040" y="2859840"/>
            <a:ext cx="82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  <a:ea typeface="Calibri"/>
              </a:rPr>
              <a:t>2020.g.:  Zemgalē  Lauku māja "Caunītes" (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  <a:ea typeface="Calibri"/>
              </a:rPr>
              <a:t>Cenu pagasts, 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  <a:ea typeface="Calibri"/>
              </a:rPr>
              <a:t>Ozolnieku novad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8T11:57:36Z</dcterms:created>
  <dc:creator>Arnis</dc:creator>
  <dc:description/>
  <dc:language>en-US</dc:language>
  <cp:lastModifiedBy>Arnis 15.06.</cp:lastModifiedBy>
  <dcterms:modified xsi:type="dcterms:W3CDTF">2020-09-27T16:56:28Z</dcterms:modified>
  <cp:revision>711</cp:revision>
  <dc:subject/>
  <dc:title>Slide 1</dc:title>
</cp:coreProperties>
</file>